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14F8-4EA8-48BF-9C80-8CBD70D1D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C85A-FBF3-4FE5-9884-82711281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FC05-AE24-4724-B0A2-EA18A0D17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A1F8-F861-4FA2-90E2-361704685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EE3D-265F-4066-ACEE-B977459BA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08C3-271B-4A87-A101-4F002136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75A8-1DCF-44DE-A831-45F6221A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DA89-3A01-4F48-AA73-910FA569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4B43-E7AD-44E8-922F-BE21545E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51B8-385B-4D9D-B56C-128D3576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A784-0703-4A44-BD96-FA128051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03B2-9734-4366-9606-4744F03C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5FFE-D501-4E02-8A32-0D717439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D870-8E3D-401F-B354-4F23FF2F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D513-AD57-4E5F-BB4E-B906D69D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2E41-9CA5-4359-A864-72AA2D809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D0EA-4097-482B-B153-2BEA65A78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6BB7-BF88-4898-B35A-5BF4DA16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4C9B-8684-47EC-856C-AD0428A9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36B5-0CF3-4D8E-BE46-B8F6CA34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CD5D-5326-44A8-A787-E5D58EC0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06FB-5AD7-41C2-8987-4D368155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9485-BE09-4909-98C3-6AA5F557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D338-CE16-4CC3-89A2-91BC4DC2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5A53-BA5A-4526-A82A-8AF0BC259A82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8EF3-BDED-48BE-9A86-ADED8A081C02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0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Зачем и как люди заботятся о почве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ыполнила: Мартышева Л. П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</a:rPr>
              <a:t>ТЕСТ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</a:rPr>
              <a:t>ТЕМА:  «ЧТО ТАКОЕ ПОЧВА?»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</a:rPr>
              <a:t>ФАМИЛИЯ, ИМЯ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________________________________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</a:rPr>
              <a:t>1. Что такое почва? Обведи  нужную букву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а) это верхний слой земли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б) это вещество черного или серого цвета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в) это верхний плодородный слой земли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</a:rPr>
              <a:t>2. Из чего состоит почва? Обведи кружком буквы правильных ответов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а) минеральные соли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б) микробы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в) руда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г) глина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д) песок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е) перегной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ж) вода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</a:rPr>
              <a:t>3. Что растения получают из почвы? Обведи нужную букву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а) останки растений и животных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б) бактерии и микробы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в) воздух, воду, соли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</a:rPr>
              <a:t>4. Что влияет на плодородие почвы? Обведи нужную букву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а) наличие в почве  перегноя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б) наличие в почве воды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в) наличие в почве песка и глины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</a:rPr>
              <a:t>5. Из чего в почве образуется перегной? Обведи нужную букву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а) из песка и глины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б) из воды и воздуха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в) из остатков растений и животных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55520" y="46080"/>
            <a:ext cx="2276640" cy="14288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611280" y="177336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4"/>
          <a:stretch/>
        </p:blipFill>
        <p:spPr>
          <a:xfrm>
            <a:off x="684360" y="407664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5"/>
          <a:stretch/>
        </p:blipFill>
        <p:spPr>
          <a:xfrm>
            <a:off x="3419640" y="177336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6"/>
          <a:stretch/>
        </p:blipFill>
        <p:spPr>
          <a:xfrm>
            <a:off x="3419640" y="4076640"/>
            <a:ext cx="2019240" cy="14288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7"/>
          <a:stretch/>
        </p:blipFill>
        <p:spPr>
          <a:xfrm>
            <a:off x="5796000" y="1773360"/>
            <a:ext cx="2457360" cy="14284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8"/>
          <a:stretch/>
        </p:blipFill>
        <p:spPr>
          <a:xfrm>
            <a:off x="6588000" y="4149720"/>
            <a:ext cx="1438560" cy="14288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9"/>
          <a:stretch/>
        </p:blipFill>
        <p:spPr>
          <a:xfrm>
            <a:off x="6012000" y="18900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Землю уважай, она дает урожа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Земля - кормилиц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Земля заботу любит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Кто землю лелеет, того земля жалеет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6" name="Picture 2" descr="плодородная земл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8" name="Picture 2" descr="плодородная земля1"/>
          <p:cNvPicPr/>
          <p:nvPr/>
        </p:nvPicPr>
        <p:blipFill>
          <a:blip r:embed="rId1"/>
          <a:srcRect l="0" t="6299" r="0" b="94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1" name="Picture 2" descr="минеральные удобрени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3" name="Picture 2" descr="защит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5" name="Picture 2" descr="снегозадержа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46436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Перекопка, рыхле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Удобре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3. Снегозадерж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4. Лесозащитные полос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2" name="Picture 2" descr="цвет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Овраг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Сильные ветр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3. Вод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4. Ядохимикат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5. Мусор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1T16:24:29Z</dcterms:created>
  <dc:creator>Basil</dc:creator>
  <dc:description/>
  <dc:language>en-US</dc:language>
  <cp:lastModifiedBy>Basil</cp:lastModifiedBy>
  <dcterms:modified xsi:type="dcterms:W3CDTF">2015-02-19T13:25:08Z</dcterms:modified>
  <cp:revision>29</cp:revision>
  <dc:subject/>
  <dc:title>Слайд 1</dc:title>
</cp:coreProperties>
</file>